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E70D-CCF6-4AA9-9D97-682C77593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5A71-1AAF-4A80-8A8C-20C170FF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A8D7-D063-4E5A-A295-69FE9B3EB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4DBD-FFD1-4A79-998D-59713152D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9B2D-5615-4A38-84B7-0AB6DB34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2352-FA47-4D73-9E29-426F59E9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361F-17F6-4BBE-9E63-E9DDA734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045A-0CBB-44AC-B2A4-4596AB77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357F-B82D-4CF6-8732-77FE604B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81ED-4B2D-4DEE-B49D-B4F9C9B1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FD61-1452-43B5-A471-A79BB3DB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B876-B1EC-4002-A26D-2115AA51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DF4068-035B-496A-B93E-B13563A7A2D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test PowerPoint document for the TemplatePackage example site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12</Words>
  <Paragraphs>1</Paragraphs>
  <Company>Centers for Disease Control and Prevent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3T13:08:49Z</dcterms:created>
  <dc:creator>CDC User</dc:creator>
  <dc:description/>
  <dc:language>en-US</dc:language>
  <cp:lastModifiedBy>CDC User</cp:lastModifiedBy>
  <dcterms:modified xsi:type="dcterms:W3CDTF">2012-08-03T13:09:12Z</dcterms:modified>
  <cp:revision>1</cp:revision>
  <dc:subject/>
  <dc:title>This is a test PowerPoint document for the TemplatePackage example site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</vt:r8>
  </property>
</Properties>
</file>