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4D83-907A-48E4-AC60-0DEAEC9DB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214B-D086-4169-AA02-10A3C467E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781F-FADD-4914-AECB-B3594B6BD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D7F0-E50D-4883-B5CF-DEBEC88A0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40E0-D7F2-4D21-B196-D3A9FC1A1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9801-D4DA-45D0-B56C-2B5669A1A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A4D7-9D9C-4FDB-980B-276AACC9C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9C97-1ACB-4F4E-A48F-2750AB051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1086-3C35-41B2-8F04-F24E83ABA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065E-4C80-43EF-883A-F69D7A5DB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1745-0878-48E7-8CDF-9776A7C8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667C-DB99-4926-8348-81395B5C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E87B922-A768-4F77-8074-8E5684F998BF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8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test PowerPoint document for the TemplatePackage example site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12</Words>
  <Paragraphs>1</Paragraphs>
  <Company>Centers for Disease Control and Prevention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3T13:08:49Z</dcterms:created>
  <dc:creator>CDC User</dc:creator>
  <dc:description/>
  <dc:language>en-US</dc:language>
  <cp:lastModifiedBy>CDC User</cp:lastModifiedBy>
  <dcterms:modified xsi:type="dcterms:W3CDTF">2012-08-03T13:09:12Z</dcterms:modified>
  <cp:revision>1</cp:revision>
  <dc:subject/>
  <dc:title>This is a test PowerPoint document for the TemplatePackage example site.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1</vt:r8>
  </property>
</Properties>
</file>